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347-3CDA-431E-A455-AE697066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D1A-3F2A-4BAA-9C20-255EDD87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B9A-45FC-418E-9676-3828CC7A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873-7D9E-4989-B2B2-95FC0C46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4C49-16CA-4740-9694-B357C052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31A5-FA17-4714-9DB5-885BD2AF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211C-8102-4909-ADE3-54004B30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B110-8B25-4927-B975-C98CA11D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1096-E38A-4AFD-AE1D-0900B36C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B0E9-61AA-4593-BFF2-F5A43800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C17C-9C31-42D7-9762-FFE8AC47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72E-3410-49A3-8C78-837A4575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2EE0-6AA4-4B5D-A606-24D29E47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F337-EB08-46FD-8777-BE22E66A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CCDC-42E5-47AF-A00B-BB54098B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0E0C-C552-479E-95F9-132F58FE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75AC-948A-40FA-9C99-7F48F9C2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792-B672-421A-9EBA-A5AA65BB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347-2013-492D-B75C-C4AB6A4D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308-CBEE-40AE-AEBD-C8667BA2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9FF-46D0-424C-B2DD-85D5FD5E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785-7C4E-4F64-B38B-EF0DAFC5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793-DB2D-40F6-A3C2-491F3E8F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CE6-3A27-4EA8-A524-33F3FF49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7D66-83C2-4B24-8C39-EA2443939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8F85-0510-4797-8B47-CAC8B273B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sting Skills &amp; Behavi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400" y="3886200"/>
            <a:ext cx="6451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rget behavior is some type of performance reflecting how a trainee or student can carry out a particular task or a group of related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bservation/ Anecdotal Record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ation can provide a valuable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student attitu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bservation is carried out by the instructor while learners are at work in their normal study or activ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strument for recording can be a simple questionnaire, a rating scale, or an open-ended form on with anecdotal com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sessment in Behavi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may smile frequently about instruction but not transfer feelings outside of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 instrument for assessing behavioral changes is direct observation for lear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 may need to develop a brief questionnaire that asks students to supply this inform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Questionnaire / Survey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ended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rner writes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-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umber of fixed responses from which learners choose the answer that best reflects their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en -ended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s data that are time consuming to analyze but may be more valuable in conveying learners’ feelings and reas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ose - en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quicker to process &amp; are more reliable &amp; consist of a longer list of alternatives from which the learner checks understanding or important choices or rates the alternatives on a numerical s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 Rating Sca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dification of a questionnaire in which the learner replies to a statement by selecting a point along a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ale may be composed of two points (yes/no), three points (agree, no opinion, disagree), or the five point (very often, quite often, sometimes, hardly ever, nev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the number of rating points to five or 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verbal descriptors to define the numerical rating points (low, average, high above the numbe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rvie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view allows a learner to discuss their reactions toward instruction in more detail than in a survey or question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 can be structured or un struc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advantage can be loss of control and increase in time sp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focus group” could be more lively and inform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Standards of Instructional Ob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the same as those covered during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would need to be broken down into more precise descriptions of expecte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to testing the student should have sufficient opportunities to practice and apply the skills to be able to demonstrate th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eliminary Consideration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Will the process, product, or both be evaluated? When a learner performs a task, the confidence, care, and accuracy with which he or she carries out the procedures usually are important. This is a measurement of the process portion of the task, which may include these elements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3733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liminary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1981080"/>
            <a:ext cx="54864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a proper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ing detailed mani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ools or instruments prope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in a specific tim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752120"/>
            <a:ext cx="7238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What constraints or limitations should be recognized when planning a performance evaluation? Should one use realistic or simulated testing?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3400" y="9064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3841920"/>
            <a:ext cx="3597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for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fety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needed for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en choosing a testing method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sider these facto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quired place for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essary or specialized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s, tools, &amp; supplie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quired involvement of other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ulated or Realistic Testing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1752480"/>
            <a:ext cx="601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mulation should  be as job like as possible to serve as a valid measure of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 assessments involve the student demonstrating the performance in real-life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is good for enhancing the learning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meaningful “formative assessments” can be meaningfu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Types of Skill / Behavior Assessment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naturally occurring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ngs of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ng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2880" y="20574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cdotal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 check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hib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ttitude Assessment</a:t>
            </a:r>
            <a:br>
              <a:rPr sz="4400"/>
            </a:br>
            <a:r>
              <a:rPr b="0" lang="en-US" sz="1800" spc="-1" strike="noStrike">
                <a:solidFill>
                  <a:srgbClr val="221304"/>
                </a:solidFill>
                <a:latin typeface="Times New Roman"/>
              </a:rPr>
              <a:t>in formative, summative, &amp; confirmative evaluations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rest is in evaluating how the student reacts to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Effectiv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the how much attitude changes as a direct result of the instructional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733920" cy="3049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9:48:55Z</dcterms:created>
  <dc:creator>cindy migliaccio</dc:creator>
  <dc:description/>
  <dc:language>en-US</dc:language>
  <cp:lastModifiedBy>cindy migliaccio</cp:lastModifiedBy>
  <dcterms:modified xsi:type="dcterms:W3CDTF">2010-06-23T18:21:12Z</dcterms:modified>
  <cp:revision>5</cp:revision>
  <dc:subject/>
  <dc:title>Testing Skills &amp; Behavior</dc:title>
</cp:coreProperties>
</file>